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2.gif" ContentType="image/gif"/>
  <Override PartName="/ppt/media/image9.gif" ContentType="image/gif"/>
  <Override PartName="/ppt/media/image7.wmf" ContentType="image/x-wmf"/>
  <Override PartName="/ppt/media/image20.jpeg" ContentType="image/jpeg"/>
  <Override PartName="/ppt/media/image1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3.gif" ContentType="image/gif"/>
  <Override PartName="/ppt/media/image11.wmf" ContentType="image/x-wmf"/>
  <Override PartName="/ppt/media/image17.wmf" ContentType="image/x-wmf"/>
  <Override PartName="/ppt/media/image16.jpeg" ContentType="image/jpeg"/>
  <Override PartName="/ppt/media/image1.jpeg" ContentType="image/jpeg"/>
  <Override PartName="/ppt/media/image15.wmf" ContentType="image/x-wmf"/>
  <Override PartName="/ppt/media/image12.jpeg" ContentType="image/jpeg"/>
  <Override PartName="/ppt/media/image6.jpeg" ContentType="image/jpeg"/>
  <Override PartName="/ppt/media/image5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A09-06E2-464A-8BF9-F8F2F892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A12-41D7-4730-8A28-8419EBDF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AD9-AC7A-4A42-97DE-7B0B5090D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2686-0EE1-4171-A27B-D978071C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F63-322D-4F0E-BC24-CC654978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F76-7445-4536-B064-3ACD3ADC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0D60-9F59-4086-891E-9C0B3220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E1BF-6052-4B89-A75A-1C85E202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EBF-46BE-43C6-8D52-78373AC0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F006-21EE-4FAE-BAB5-C080816A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C8D-0D2D-46AE-B6E0-C1F70321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E9E-23CD-4D79-8A37-C0AF2246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0F7D-15AC-484F-9093-481783243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pace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BY BRIANNA BRYANT SNR 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na Bry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77080" y="5084640"/>
            <a:ext cx="496800" cy="50328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Bradley Hand ITC"/>
              </a:rPr>
              <a:t>Pluto-Piz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9200" y="1341360"/>
            <a:ext cx="2314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radley Hand ITC"/>
              </a:rPr>
              <a:t>Pluto is the furthest away planet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radley Hand ITC"/>
              </a:rPr>
              <a:t>It is a ‘dwarf plane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1928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 rot="5400000">
            <a:off x="-2705040" y="2705040"/>
            <a:ext cx="6597720" cy="1187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VEMJSUN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1187280" y="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9079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1628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7280" y="2349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31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3933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47242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5589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62164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 for Watc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anks for watching my presentation 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ye B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ria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radley Hand ITC"/>
              </a:rPr>
              <a:t>Mercury=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53200" y="1413000"/>
            <a:ext cx="28908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radley Hand ITC"/>
              </a:rPr>
              <a:t>Mercury is the 1</a:t>
            </a:r>
            <a:r>
              <a:rPr b="0" lang="en-US" sz="3200" spc="-1" strike="noStrike" baseline="30000">
                <a:solidFill>
                  <a:srgbClr val="ffff00"/>
                </a:solidFill>
                <a:latin typeface="Bradley Hand ITC"/>
              </a:rPr>
              <a:t>st</a:t>
            </a:r>
            <a:r>
              <a:rPr b="0" lang="en-US" sz="3200" spc="-1" strike="noStrike">
                <a:solidFill>
                  <a:srgbClr val="ffff00"/>
                </a:solidFill>
                <a:latin typeface="Bradley Hand ITC"/>
              </a:rPr>
              <a:t> planet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radley Hand ITC"/>
              </a:rPr>
              <a:t>It’s largest crater is named Beetho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2416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Bradley Hand ITC"/>
              </a:rPr>
              <a:t>vENUS=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81200" y="1988640"/>
            <a:ext cx="2962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radley Hand ITC"/>
              </a:rPr>
              <a:t>Venus is the second planet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radley Hand ITC"/>
              </a:rPr>
              <a:t>It is the hottest planet in our So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38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Bradley Hand ITC"/>
              </a:rPr>
              <a:t>Earth-educ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469200" y="1483920"/>
            <a:ext cx="2674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radley Hand ITC"/>
              </a:rPr>
              <a:t>Earth is the 3</a:t>
            </a:r>
            <a:r>
              <a:rPr b="0" lang="en-US" sz="3200" spc="-1" strike="noStrike" baseline="30000">
                <a:solidFill>
                  <a:srgbClr val="00ff00"/>
                </a:solidFill>
                <a:latin typeface="Bradley Hand ITC"/>
              </a:rPr>
              <a:t>rd</a:t>
            </a:r>
            <a:r>
              <a:rPr b="0" lang="en-US" sz="3200" spc="-1" strike="noStrike">
                <a:solidFill>
                  <a:srgbClr val="00ff00"/>
                </a:solidFill>
                <a:latin typeface="Bradley Hand ITC"/>
              </a:rPr>
              <a:t> closest planet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Bradley Hand ITC"/>
              </a:rPr>
              <a:t>It is the only planet known to have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43280" y="40464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radley Hand ITC"/>
              </a:rPr>
              <a:t>MARS=Mo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46200" cy="2852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72000" y="1844640"/>
            <a:ext cx="3672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radley Hand ITC"/>
              </a:rPr>
              <a:t>Mars is the 4</a:t>
            </a:r>
            <a:r>
              <a:rPr b="0" lang="en-US" sz="3200" spc="-1" strike="noStrike" baseline="30000">
                <a:solidFill>
                  <a:srgbClr val="ffff00"/>
                </a:solidFill>
                <a:latin typeface="Bradley Hand ITC"/>
              </a:rPr>
              <a:t>th</a:t>
            </a:r>
            <a:r>
              <a:rPr b="0" lang="en-US" sz="3200" spc="-1" strike="noStrike">
                <a:solidFill>
                  <a:srgbClr val="ffff00"/>
                </a:solidFill>
                <a:latin typeface="Bradley Hand ITC"/>
              </a:rPr>
              <a:t> planet from the s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radley Hand ITC"/>
              </a:rPr>
              <a:t>It is known as the Big Red Pla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Bradley Hand ITC"/>
              </a:rPr>
              <a:t>Jupiter-Ju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29200" y="1628280"/>
            <a:ext cx="231444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Bradley Hand ITC"/>
              </a:rPr>
              <a:t>Jupiter is the 5</a:t>
            </a:r>
            <a:r>
              <a:rPr b="0" lang="en-US" sz="2800" spc="-1" strike="noStrike" baseline="30000">
                <a:solidFill>
                  <a:srgbClr val="3366ff"/>
                </a:solidFill>
                <a:latin typeface="Bradley Hand ITC"/>
              </a:rPr>
              <a:t>th</a:t>
            </a:r>
            <a:r>
              <a:rPr b="0" lang="en-US" sz="2800" spc="-1" strike="noStrike">
                <a:solidFill>
                  <a:srgbClr val="3366ff"/>
                </a:solidFill>
                <a:latin typeface="Bradley Hand ITC"/>
              </a:rPr>
              <a:t> planet from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Bradley Hand ITC"/>
              </a:rPr>
              <a:t>It is the largest planet in our Sola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3052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Bradley Hand ITC"/>
              </a:rPr>
              <a:t>Saturn-serv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84480" y="1483920"/>
            <a:ext cx="2459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Bradley Hand ITC"/>
              </a:rPr>
              <a:t>Saturn is the 6</a:t>
            </a:r>
            <a:r>
              <a:rPr b="0" lang="en-US" sz="3200" spc="-1" strike="noStrike" baseline="30000">
                <a:solidFill>
                  <a:srgbClr val="ff9933"/>
                </a:solidFill>
                <a:latin typeface="Bradley Hand ITC"/>
              </a:rPr>
              <a:t>th</a:t>
            </a:r>
            <a:r>
              <a:rPr b="0" lang="en-US" sz="3200" spc="-1" strike="noStrike">
                <a:solidFill>
                  <a:srgbClr val="ff9933"/>
                </a:solidFill>
                <a:latin typeface="Bradley Hand ITC"/>
              </a:rPr>
              <a:t> planet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Bradley Hand ITC"/>
              </a:rPr>
              <a:t>It has 31 mo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0812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Bradley Hand ITC"/>
              </a:rPr>
              <a:t>Uranus-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60480" y="1483920"/>
            <a:ext cx="3683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radley Hand ITC"/>
              </a:rPr>
              <a:t>Uranus is the 7</a:t>
            </a:r>
            <a:r>
              <a:rPr b="0" lang="en-US" sz="3200" spc="-1" strike="noStrike" baseline="30000">
                <a:solidFill>
                  <a:srgbClr val="66ffff"/>
                </a:solidFill>
                <a:latin typeface="Bradley Hand ITC"/>
              </a:rPr>
              <a:t>th</a:t>
            </a:r>
            <a:r>
              <a:rPr b="0" lang="en-US" sz="3200" spc="-1" strike="noStrike">
                <a:solidFill>
                  <a:srgbClr val="66ffff"/>
                </a:solidFill>
                <a:latin typeface="Bradley Hand ITC"/>
              </a:rPr>
              <a:t> planet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Bradley Hand ITC"/>
              </a:rPr>
              <a:t>It takes 84 years to orbit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8276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Bradley Hand ITC"/>
              </a:rPr>
              <a:t>Neptune-N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97200" y="1557360"/>
            <a:ext cx="2746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Bradley Hand ITC"/>
              </a:rPr>
              <a:t>Neptune is the 8</a:t>
            </a:r>
            <a:r>
              <a:rPr b="0" lang="en-US" sz="3200" spc="-1" strike="noStrike" baseline="30000">
                <a:solidFill>
                  <a:srgbClr val="66ccff"/>
                </a:solidFill>
                <a:latin typeface="Bradley Hand ITC"/>
              </a:rPr>
              <a:t>th</a:t>
            </a:r>
            <a:r>
              <a:rPr b="0" lang="en-US" sz="3200" spc="-1" strike="noStrike">
                <a:solidFill>
                  <a:srgbClr val="66ccff"/>
                </a:solidFill>
                <a:latin typeface="Bradley Hand ITC"/>
              </a:rPr>
              <a:t> planet from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Bradley Hand ITC"/>
              </a:rPr>
              <a:t>It also has very faint 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30440" cy="292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01:36:48Z</dcterms:created>
  <dc:creator>Admin</dc:creator>
  <dc:description/>
  <dc:language>en-US</dc:language>
  <cp:lastModifiedBy>Admin</cp:lastModifiedBy>
  <dcterms:modified xsi:type="dcterms:W3CDTF">2009-09-03T03:05:14Z</dcterms:modified>
  <cp:revision>8</cp:revision>
  <dc:subject/>
  <dc:title>Space</dc:title>
</cp:coreProperties>
</file>